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832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9736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014120" y="728640"/>
            <a:ext cx="4854600" cy="364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292A-0339-434B-AADE-44E3975874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23C8-E2B2-42AA-A5A2-4845D0F1F4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AD42-28D5-4A72-93FF-A4F122A15B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077C-D645-4B54-B186-EBE07B209B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B454-5368-4B1E-9827-D61F98F53A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4AE4-B4D6-4BA9-8B58-26F397AFAB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F645-B577-4C77-9308-BCEE7E6B4F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C4C8-0762-41F1-8ED5-33F284F20B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C188-2351-4F0D-B651-30D4695334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224E-CE21-4CED-A500-117B622FFD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AC79-FEBF-4032-B7C4-84A5A1831B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E9D9-4E8A-4621-AA08-74F88DA44E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0037-FF3A-43C8-BDD8-D6CD905898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CB7C-7D1E-46C4-B7AD-B593EBAD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F99-E803-46BB-9F3F-2E177C72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B5C3-9AC7-48E2-9B11-8823BF4E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3DD2-99D3-45D9-86CA-F3B2A78E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B6AA-398C-4602-851A-D1E9896B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3A0C-3B68-4F45-B342-1AA7A911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B233-C7FD-46D8-9611-20142F12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D819-C799-4EFC-9AD0-8655D54A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2AE7-3A94-41B8-BFEC-0CCAE57D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1E5B-7C66-464C-9B9A-41048932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7E9A-CEB6-49FD-BFDB-F881862E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BABE-2159-4048-8119-D10A5ACF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E462-1839-43EB-A394-6CDFFC89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B47D-438B-4B3B-A403-3A83F604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8562-647F-4042-9103-4B04BFBD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243C-7561-4A35-B02C-5D498C39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C79F-2561-4626-B892-946905D2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B2189-7B2F-452C-AEEF-CD1AC498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5F5A1-BF69-48B0-99EA-8C5347A9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AF8FD-0693-43D5-8D64-4A7D5295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141FA-48F0-4308-B4B8-1E873C76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2CA0D-BBCE-41F8-8B5C-63454DAF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EAC-018E-41E2-8D96-1FF8ACC8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82A82-55B7-47FF-8356-A2734DF1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3ACE0-D425-49F5-8E31-B4344588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8A803-D631-4DF7-92C5-007AFFF6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11C01-D6AC-43F1-949D-6A8ECE51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E2F8F-5881-4A3B-B9A5-134A8C1B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023F6-17BE-4F8A-AC83-F47BCAFF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C0378-CAA3-4674-BB8B-062298D0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30630-CA82-4196-AF46-EE7EAF80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DA809-A4CC-4261-9B1F-C3F51EAD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9C4F6-F52F-49DD-BEC7-73A59920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F12-6DFB-49F7-855C-FFE8913D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1C579-1547-478D-B521-49A252BB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6383B-5222-4D7F-AA3E-2F75465A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002CC-DDEA-4A45-AEB6-2DF32E51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40E0D-493B-4148-9CB9-95BB3266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5640C-B2EF-4042-8CF8-E59CCE02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2DD55-94CE-405B-A048-D9E812AC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DA7C7-9B2B-4BAD-B961-67EE4548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553F7-5C74-4E8B-89F9-774A16AC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D2286-61E9-4E19-AEA6-F886DF6A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5395-05E6-472A-964B-3F422545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2048-5EEC-44C7-82A6-12167351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81E9-431A-48FF-9181-3106140D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BA56-D135-4E00-B955-0FC6B60B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B649-3519-46A0-8E23-5FEDD8CC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aed2"/>
            </a:gs>
            <a:gs pos="100000">
              <a:srgbClr val="ebf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1205000.png"/>
          <p:cNvPicPr/>
          <p:nvPr/>
        </p:nvPicPr>
        <p:blipFill>
          <a:blip r:embed="rId2"/>
          <a:stretch/>
        </p:blipFill>
        <p:spPr>
          <a:xfrm>
            <a:off x="0" y="0"/>
            <a:ext cx="1728720" cy="1657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E35A-9390-4720-B20E-CC0E2994A0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013A-EE08-43A5-9F89-7A51518A8959}" type="slidenum">
              <a:rPr b="1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9ed0"/>
            </a:gs>
            <a:gs pos="100000">
              <a:srgbClr val="ebf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6" descr="1205000.png"/>
          <p:cNvPicPr/>
          <p:nvPr/>
        </p:nvPicPr>
        <p:blipFill>
          <a:blip r:embed="rId2"/>
          <a:stretch/>
        </p:blipFill>
        <p:spPr>
          <a:xfrm>
            <a:off x="0" y="0"/>
            <a:ext cx="1728720" cy="1657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A36C-9D30-448E-803C-AA9C8FE2A2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48D8-53B4-40FE-9AF1-635696088D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278920" cy="39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стер – класс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Использование приемов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критическог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ышления на уроках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в начальных классах»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78920" y="4797000"/>
            <a:ext cx="8425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 КГ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рнеевская средняя школа» Макухина Ю.В.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C:\Users\29\Desktop\Снимок.JPG"/>
          <p:cNvPicPr/>
          <p:nvPr/>
        </p:nvPicPr>
        <p:blipFill>
          <a:blip r:embed="rId1"/>
          <a:stretch/>
        </p:blipFill>
        <p:spPr>
          <a:xfrm>
            <a:off x="5778360" y="1554120"/>
            <a:ext cx="278604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5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стадии осмысл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86920" y="1125360"/>
            <a:ext cx="6697800" cy="573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нсерт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ометки на поля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ение с останов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Тонкие и толстые вопрос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Мозговой штур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Фишбоу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Взаимоопро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Горячий сту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37856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Приём «Инсерт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964720" cy="63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Каждому ученику выдается текст и  таб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Прочитывание и осмысление текста с последующими пометками на полях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+» - если считают, что это им извест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-» - если считают, что это противоречит тем знаниям, которые у них е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» - если то, что прочитали, является новы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?» - если то, что прочитали, оказалось непонятным и требует разъяснений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 Систематизация тек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. Заполнение таблицы в виде сжатой информации (это может быть слово, фраза, понятие и т.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. Обсуждение в группах по заданн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. Затем идет межгрупповое обсуждение  каждого столб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136000" cy="74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ставляется индивидуально по результатам работы с тексто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26920" y="2205000"/>
          <a:ext cx="7561440" cy="2087640"/>
        </p:xfrm>
        <a:graphic>
          <a:graphicData uri="http://schemas.openxmlformats.org/drawingml/2006/table">
            <a:tbl>
              <a:tblPr/>
              <a:tblGrid>
                <a:gridCol w="1890720"/>
                <a:gridCol w="1890720"/>
                <a:gridCol w="1889280"/>
                <a:gridCol w="1890720"/>
              </a:tblGrid>
              <a:tr h="135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+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Хочу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-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Узнал но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</a:t>
                      </a:r>
                      <a:r>
                        <a:rPr b="0" i="1" lang="en-US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V</a:t>
                      </a: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  <a:tr h="73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30"/>
          <p:cNvSpPr/>
          <p:nvPr/>
        </p:nvSpPr>
        <p:spPr>
          <a:xfrm>
            <a:off x="468360" y="450864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териал обсуждается в парах и сообщается учителю, который её фиксирует. Обсуждение позволяет систематизировать информацию и выделить главные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7440" cy="6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Таблица аргументов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71280" y="1052640"/>
            <a:ext cx="7272360" cy="129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итель даёт аргументы. Учащиеся должны их опровергнуть или подтвердить фактами имеющихся знаний по данной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5640" y="3357720"/>
          <a:ext cx="7800840" cy="1676160"/>
        </p:xfrm>
        <a:graphic>
          <a:graphicData uri="http://schemas.openxmlformats.org/drawingml/2006/table">
            <a:tbl>
              <a:tblPr/>
              <a:tblGrid>
                <a:gridCol w="2600280"/>
                <a:gridCol w="2600280"/>
                <a:gridCol w="260028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ргум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меля в сказке «По щучьему велению» был лентя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«д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«не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Приём «Тонкие и толстые вопросы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84360" y="836640"/>
          <a:ext cx="7921440" cy="511344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592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нкие вопросы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лстые вопросы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521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т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чт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огда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может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будет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мог 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ак зва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было 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согласны ли вы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верн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дайте объяснение, почему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чему вы думаете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чему вы считаете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в чем разница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редположите, что будет, ес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что, ес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246320" y="213840"/>
            <a:ext cx="6867360" cy="63684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рефлекс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971640" y="2997360"/>
            <a:ext cx="7272360" cy="107928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тив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буждение к дальнейшему расшир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онного по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1042920" y="558972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цено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выработка собственной пози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1042920" y="443700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риобретение новых зн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971640" y="170028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оммуник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обмен мнениями о новой информ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859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стадии рефлекс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4360" y="1676160"/>
            <a:ext cx="7920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«Перепутанные логические цепоч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 нового вы узнали на уро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писание синкв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ём «Написание ЭСС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иём «Класте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ем «Горячий сту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639432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Кластер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ользуется как средство для подведения итог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 стимул для возникновения новых ассоциа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графических изображений новых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Выписывается ключевое сло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Записываются слова и предложения по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. Происходит разделение материала на отдельные бло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Устанавливаются и выражаются графически логические связи между бло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859800" cy="39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оздание группового кластера со словом учитель. Защита кластера группами.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560" y="907920"/>
            <a:ext cx="797868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744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Перепутанные логические цепочки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48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На доске или карточках написаны термины (последовательность терминов), некоторые из них с ошиб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Группам предлагается исправить ошибки или восстановить порядок запи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и Программы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67616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ые подходы в преподавании и обуч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критическому мышл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вание для обучения и оценивание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ИКТ в преподавании и обуч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талантливых и одаренных уче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ние и обучение в соответствии с В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и лидерство в об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646596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Синквейн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96472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Синквейн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это стихотворение, которое требует синтеза информации и материала в кратких выраж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равила напис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ая строчка – название темы в одном слове (существительн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торая строчка – описание темы в двух словах (прилагательные или причас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етья строчка – описание действия в трёх словах(глаголы или деепричас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етвёртая строчка – это фраза их четырёх слов, показывающая отношение к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иноним из одного слова, который повторяет суть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0160" y="380880"/>
            <a:ext cx="6859440" cy="268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актическое задание: составление синквейна к словам мышление, обуче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02920" y="404640"/>
            <a:ext cx="685980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актик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ем «Горячий стул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640720" cy="18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 на уроках приемов критического мышления дает ученику: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2803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757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повышение эффективности восприятия информации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повышение интереса как к изучаемому материалу, так и к самому процессу обучения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критически мыслить;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- </a:t>
            </a:r>
            <a:r>
              <a:rPr b="1" lang="ru-RU" sz="2400" spc="-1" strike="noStrike">
                <a:solidFill>
                  <a:srgbClr val="00337f"/>
                </a:solidFill>
                <a:latin typeface="Tahoma"/>
              </a:rPr>
              <a:t>умение ответственно относиться к собственному образованию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работать в сотрудничестве с другими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повышение качества образования учеников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желание и умение стать человеком, который учится в течение все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380520"/>
            <a:ext cx="8280360" cy="153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 на уроках приемов критического мышления дает учителю: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7905600" cy="47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создать в классе атмосферу открытости и ответственного сотрудничества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возможность использовать модель обучения и систему эффективных методик, которые способствуют развитию критического мышления и самостоятельности в процессе обучения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стать практиками, которые умеют грамотно анализировать свою деятельность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стать источником ценной профессиональной информации для других учителей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41708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флексия «Пожелание»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95280" y="620280"/>
            <a:ext cx="8137440" cy="46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ю вам цвести, ра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ть, крепить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для дальнего пут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ейшее усло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каждый день и каждый 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новой добуд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добрым будет ум у в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рдце будет ум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от души желаю 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, всего хорош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се хорошее, друз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ся нам недеше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     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Марш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376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дачи Вам во всем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орогие коллеги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Спасибо за внимание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280" y="3805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Модуль «Обучение критическому мышлению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Цель данн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 Модуля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- развитие мыслительных навыков учащихся, необходимых не только в учёбе, но и в обычной жизни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нный Модуль представляет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собой совокупность разнообразных приёмов, направленных на то, чтобы сначала заинтересовать ученик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Данный Модуль-это целостная система,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которая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развивает продуктивное творческое мышление, формирует интеллектуальные умения, навыки работы с информацией,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учит уч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28760" y="2357280"/>
          <a:ext cx="8143920" cy="3286440"/>
        </p:xfrm>
        <a:graphic>
          <a:graphicData uri="http://schemas.openxmlformats.org/drawingml/2006/table">
            <a:tbl>
              <a:tblPr/>
              <a:tblGrid>
                <a:gridCol w="2714400"/>
                <a:gridCol w="2716200"/>
                <a:gridCol w="2713320"/>
              </a:tblGrid>
              <a:tr h="1624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выз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осмыс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рефлекс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  <a:tr h="1662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раткое обобщение имеющихс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думчивая работа с новыми понят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теграция новых и имеющихс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</a:tr>
            </a:tbl>
          </a:graphicData>
        </a:graphic>
      </p:graphicFrame>
      <p:sp>
        <p:nvSpPr>
          <p:cNvPr id="181" name="Прямоугольник 11"/>
          <p:cNvSpPr/>
          <p:nvPr/>
        </p:nvSpPr>
        <p:spPr>
          <a:xfrm>
            <a:off x="1143000" y="357120"/>
            <a:ext cx="692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ад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боты по Модулю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учение критическому мышлени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918440" y="578520"/>
            <a:ext cx="5666760" cy="73368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вызов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971640" y="1916280"/>
            <a:ext cx="7272360" cy="86328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тив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робуждение интереса и побуждение к рабо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1042920" y="3573360"/>
            <a:ext cx="7201080" cy="1079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актуализация (вызов «на поверхность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же имеющихся зн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1042920" y="5300640"/>
            <a:ext cx="7201080" cy="100800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оммуник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бесконфликтный обмен мнения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а стадии вызов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26920" y="1267920"/>
            <a:ext cx="763272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Корзина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Вы согласны с этим высказыванием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Как бы вы прокомментировали эпиграф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Верите ли вы, чт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З-Х-У» («знаю-хочу узнать-узнал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6859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ем «Верите ли вы, что…»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8000" y="1125360"/>
            <a:ext cx="8280360" cy="460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по окончанию семинара, вы что-нибудь возьмёте для своей педагогической копил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устанете сегодня на семина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можно детей научить учи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6859440" cy="68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Корзина идей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9640" y="98064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 такое критическое мышление в вашем понима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111680" y="502920"/>
            <a:ext cx="7135560" cy="66744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осмысл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1042920" y="2060640"/>
            <a:ext cx="727236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лучение новой информ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1116000" y="3933720"/>
            <a:ext cx="720108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истематиз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классификация, распределение информации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9</cp:lastModifiedBy>
  <cp:lastPrinted>2013-04-28T11:35:22Z</cp:lastPrinted>
  <dcterms:modified xsi:type="dcterms:W3CDTF">2014-11-17T10:42:26Z</dcterms:modified>
  <cp:revision>65</cp:revision>
  <dc:subject/>
  <dc:title>Современные образовательные технологии</dc:title>
</cp:coreProperties>
</file>